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BEA-1F85-4B6A-A467-462737AF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2F6-414F-47EB-A938-FC0BBF29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36A-AEEE-47E9-9A4E-38B71F99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C8B-39E5-4832-95D3-D46A1C8E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1BB-A256-469A-AF1E-1A60EB12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45A-7187-4FD8-819C-4511DFB8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D99-CD2C-4047-8E11-BBC2851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E66-244D-44B8-B775-BAF0CDFE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E89-C063-456C-BFD9-4F7892DF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648-FA06-49FC-9989-3E6034F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2A4-AB2F-4A92-8DFF-A650906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C01-EA7F-464E-B353-E399F7F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F5F-406D-4518-A0D7-2A73B8D5B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yers of Eart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6688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38320" y="76320"/>
            <a:ext cx="3505320" cy="8380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cc"/>
                </a:solidFill>
                <a:latin typeface="Times New Roman"/>
              </a:rPr>
              <a:t>Crus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30481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gPreview" descr="Earth,geography,globes,maps,planets,worlds"/>
          <p:cNvPicPr/>
          <p:nvPr/>
        </p:nvPicPr>
        <p:blipFill>
          <a:blip r:embed="rId1"/>
          <a:stretch/>
        </p:blipFill>
        <p:spPr>
          <a:xfrm>
            <a:off x="2362320" y="14479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Oval 16"/>
          <p:cNvSpPr/>
          <p:nvPr/>
        </p:nvSpPr>
        <p:spPr>
          <a:xfrm>
            <a:off x="2743200" y="1828800"/>
            <a:ext cx="3657600" cy="365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18"/>
          <p:cNvSpPr/>
          <p:nvPr/>
        </p:nvSpPr>
        <p:spPr>
          <a:xfrm>
            <a:off x="3352680" y="2438280"/>
            <a:ext cx="2514600" cy="2438640"/>
          </a:xfrm>
          <a:prstGeom prst="ellipse">
            <a:avLst/>
          </a:prstGeom>
          <a:solidFill>
            <a:srgbClr val="fd7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4038480" y="3048120"/>
            <a:ext cx="1143000" cy="1218960"/>
          </a:xfrm>
          <a:prstGeom prst="ellipse">
            <a:avLst/>
          </a:prstGeom>
          <a:solidFill>
            <a:srgbClr val="f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4876920"/>
            <a:ext cx="2971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d7a03"/>
                </a:solidFill>
                <a:latin typeface="Times New Roman"/>
              </a:rPr>
              <a:t>Outer Cor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5638680" y="5867280"/>
            <a:ext cx="35053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00"/>
                </a:solidFill>
                <a:latin typeface="Times New Roman"/>
              </a:rPr>
              <a:t>Mantl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0" y="0"/>
            <a:ext cx="35053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e0000"/>
                </a:solidFill>
                <a:latin typeface="Times New Roman"/>
              </a:rPr>
              <a:t>Inner Cor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4:40:52Z</dcterms:created>
  <dc:creator>Dekalb County School</dc:creator>
  <dc:description/>
  <dc:language>en-US</dc:language>
  <cp:lastModifiedBy>Dekalb County School</cp:lastModifiedBy>
  <dcterms:modified xsi:type="dcterms:W3CDTF">2012-04-16T15:55:43Z</dcterms:modified>
  <cp:revision>6</cp:revision>
  <dc:subject/>
  <dc:title>Layers of Earth</dc:title>
</cp:coreProperties>
</file>